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ABE3-32FA-4925-B829-2D9D416B3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DC4C-F819-4E4E-8B55-2C67CC221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D61E-D0C5-4EE5-AF17-81FF821F2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07D7-6889-4E91-B098-35ACCD86F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8F40-F914-41A0-A951-ACB8277E57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B963-F0C0-444B-BA8C-C833D60593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371C-06A2-4DCA-AA1B-1C0F69822F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05C4-F6E7-4A77-83EF-212A8BB5A2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F4B13-7818-4909-A937-B719274845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78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136B1-7FDD-4A2E-AFA8-448DDF8430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8117F-4325-415E-8674-7AC112CB55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5D633-AA4E-4C1A-83F7-735A700E3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BF613-A022-4F46-9CC4-5290DEE0A7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7DEF4-52D8-41C8-B775-4C43C05C36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50457-CEF6-4172-84E4-6A0699CA04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9FD15-C7C2-4801-9BA1-27BC9F9F0A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C1FD-BF1B-4D6E-BA41-B2CF82E8CD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20DE-FD2A-4AF1-B1B5-FF5AFCE3F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260E-C447-48F6-9869-BCAA558C5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2F04-B21D-4334-9ADF-622BDFC65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78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3EEA-3560-4918-9981-1F96E5C07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4180-FDEF-4808-9E3A-AE31750A9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0482-0F08-4448-B4E5-AD7AB66FC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6E05-214F-43CF-9B6D-EA8CE11F4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71000"/>
          </a:bodyPr>
          <a:p>
            <a:pPr marL="28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28080" algn="ctr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28080" algn="ctr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28080" algn="ctr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8080" algn="ctr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8080" algn="ctr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8080" algn="ctr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E713-C27A-49B6-AD82-E665F55572EF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0608-B7A8-46A5-B813-4EF3B6A74C56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188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84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904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4624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4624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4624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rishtimes.com/newspaper/breaking/2012/0329/breaking18.html" TargetMode="External"/><Relationship Id="rId2" Type="http://schemas.openxmlformats.org/officeDocument/2006/relationships/hyperlink" Target="http://www.staffingindustry.com/eng/Research-Publications/Daily-News/Germany-Economists-expect-unemployment-rate-to-increase-again-in-2012" TargetMode="External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2440" cy="6851520"/>
              <a:chOff x="45576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80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64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84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84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2994-4342-4B95-9A13-A03DA2A7EFD6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Unemployment in Germany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erike Wittman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rter 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1-20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440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444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469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6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01C8-2709-4F87-B9E6-5921C5661CD2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irishtimes.com/newspaper/breaking/2012/0329/breaking18.htm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staffingindustry.com/eng/Research-Publications/Daily-News/Germany-Economists-expect-unemployment-rate-to-increase-again-in-201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</a:rPr>
              <a:t>http://www.dw.de/dw/article/0,,15846172,00.html?maca=en-aa-top-861-rd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indexmundi.com/germany/unemployment_rate.htm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480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484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509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1A3A-1F75-4D5B-B45F-F7C422ED9038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778040" y="965160"/>
            <a:ext cx="601992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19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123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148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59AB-56AD-4230-82B5-C985B2ACAF85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relatively low youth unemployment rate represents hope for the German labor marke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ason is because of Germany's dual system of vocational train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cational training is preparing students for trade or craft jobs with specific tasks. (i.e. Blacksmit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meantime, however, vocational training is losing importan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theless, Germany´s youth unemployment rate is still significantly lower than in France or Ita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59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163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188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2A1A-9160-45D6-86ED-3AD235B3285E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4800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graph shows the unemployment rates of several nations, including Germany, for young adults aged 15-24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68664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99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203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228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0B28-E726-4F39-BA6C-BFE570D35776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employment Ra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employment rates are down to 7.2%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are 82,000 newly employed people in German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rmany is the “euro-zones” strongest econom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rmany’s unemployment rates are below the accepted 10.1% meaning they are in a good positio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will always be a need for workers,” said the head of the head of the Federal Labor Agency in Germa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239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243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268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6BBC-FA9A-42D9-AFF4-665EB5B749DA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5257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n example of newly formed jobs for those who were previously unemployed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66756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279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283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308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9AAA-32C0-4C80-B8A5-B4DB93EE36B2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ends for Unemploymen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ヒラギノ角ゴ ProN W3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e positive trend is not likely to continue according to Gustav Horn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Gustav Horn is the director of the union of IMK (Institute for Macroeconomic Policy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e expects the unemployment numbers to rise in the first half of the year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conomists in Germany expect an average of 3.03 million germans to be unemployed by the end of this year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owever, the German government is optimistic about the future of Germany’s work force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319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323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348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6BA1-167B-47CC-B54C-96626359079A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194080" y="1082520"/>
            <a:ext cx="3670200" cy="4686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ecff"/>
                </a:solidFill>
                <a:latin typeface="Arial"/>
              </a:rPr>
              <a:t>This map shows how Germany’s unemployment is spread out over the country by region and district. It is clear that there is still a higher rate of unemployment in the east as compared to the west. </a:t>
            </a: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65240" y="1079640"/>
            <a:ext cx="468612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359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363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388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E7A7-4F80-49C0-B2CA-83F24E617A2F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6840"/>
            <a:ext cx="8229600" cy="1505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12880" y="1359000"/>
            <a:ext cx="75438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1) What percent of Germans are unemployed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A) 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) 1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) 7.2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) 6.8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0280" y="3733920"/>
            <a:ext cx="754380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2) According to the head of the Federal Labor Agency, there will always be a need for _________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A) fun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) wo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) inven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) new off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400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404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429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6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BBB4-50CD-402E-B433-67131DC84DD7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swer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9360" y="2235240"/>
            <a:ext cx="858528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1) C; Currentyly, </a:t>
            </a:r>
            <a:r>
              <a:rPr b="0" lang="en-US" sz="3100" spc="-1" strike="noStrike">
                <a:solidFill>
                  <a:srgbClr val="ffffff"/>
                </a:solidFill>
                <a:latin typeface="Arial Bold"/>
                <a:ea typeface="Arial Bold"/>
              </a:rPr>
              <a:t>7.2%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 of Germans (between the ages of 15 and 24, are unemployed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2) B; “There will always be a need for workers,” --Head of the Federal Labor Agenc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Sadmin</dc:creator>
  <dc:description/>
  <dc:language>en-US</dc:language>
  <cp:lastModifiedBy/>
  <cp:revision>0</cp:revision>
  <dc:subject/>
  <dc:title>Unemployment in Germany </dc:title>
</cp:coreProperties>
</file>